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59F7-898A-421A-A485-74077B3B61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A561-2779-4AD5-8080-D013DF843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2B91-A51B-429A-A094-EBE1C553D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64F5-BD8C-443C-987D-6638F5ED71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7D36-0B24-4B49-83AE-E8BDCE6E20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2DD3-3FEE-447A-831C-1E960CEA0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6A41-E61F-4555-9BB7-E51E63AB0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B97F-17C0-4ADB-9591-884894F7C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92F3-C13F-49C6-A104-A445E0C4B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87FE-8119-4871-B37A-A8D153C4F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6D11-8F1C-4936-B6F3-5ADDCADB3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7507-1F25-4F85-B570-057FAFDEF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C286-15C4-4633-84F9-41BA04B62E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D2D9-598C-4E2E-86C5-EE1BE669F4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ouble Click to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815F-57FB-4820-B7CD-8BB0C02576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4A33-7784-4E5A-9813-F097B2D925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96BC-1EC3-42F6-B628-F8AC6CC7B2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1ABE-514C-4D99-9258-A6AAB101F2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rystal Chilvers</cp:lastModifiedBy>
  <dcterms:modified xsi:type="dcterms:W3CDTF">2011-07-27T12:58:49Z</dcterms:modified>
  <cp:revision>3</cp:revision>
  <dc:subject/>
  <dc:title>&lt;Title&gt;</dc:title>
</cp:coreProperties>
</file>